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907588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493-66E2-4793-9894-96312BAA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5E5-820E-4601-913E-F40FFF48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E00-313B-4130-911C-F94BB50B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C2F-E5EE-4131-83AD-83BAE4D9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F635-20DE-43D0-8323-FB76FBD2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4157-FADD-420A-959C-0B5BCF95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4842-DF8D-4F4B-96CB-FC5060E3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BE53-006E-4CD6-90DC-8A7F4BE9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44D8-9338-4FC5-9842-332AA774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AC30-4A93-4C5B-A93A-AC5B2D2B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9D4A-C8A2-4EDD-AFA5-22FAABF8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D39-2A69-444B-AECE-33B4B75E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0338-B1C1-4418-BC99-0A345AD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9DE2-BEA2-48BB-B9E3-F0E9E73D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94DE-6627-453F-9BAA-F1EB4E61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F2E5-951A-419B-94BA-7A5981AB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9005-1EEA-4E0F-B0E0-EE1E0D73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3D368-234C-4656-8914-2A77C0ECD8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E3679-46F8-41C6-9EE6-6A2B24D63B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48C5E-05A9-4E1A-942D-8CC363F8E7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CAEAD-263E-444F-B5C0-A519BEB5C0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500CC-F990-4B16-A595-F04D0E572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CC7-6BC6-4E0B-99F1-FE3E2D2A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51874-7B36-4132-A8C1-08EDAA058B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180B9D-90E4-4C5E-83D1-D9CB1FEDCE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7C1DA-889E-49FD-86E9-A45F369B57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572819-BA44-4A8F-86C6-279DB7940F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C405EE-EA64-4417-945B-EEEC04B4B3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5634F-A951-4A60-94CB-9291565C92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03753-CF60-4FCF-9F04-DF73CEACC0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7A8C1-2C3F-4C79-8DE5-493BAA7EC5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8FD21-C5CA-413D-B280-81485AB4BB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CDA5A-DA84-4CBC-B3A7-5CC03DFB7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2DB-DDE6-4CD9-B701-EA031E19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5F36F-9BA0-48B4-8EEB-EA9F30F532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30B06-9473-4010-AC51-8490217CBE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F092D-7027-4FE5-9F81-62EB3F41F8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F33CD-EF09-4442-AE41-C16F9FA81D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84B38-F72D-4D27-9DC9-2A4970E1D7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ABA6D-C43E-482F-B318-9DC2EAA611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580A8-2ADB-4BE2-8954-027B6FDB64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4ED75-0781-432D-BDDB-2C8221AEE1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00618-3356-4B72-9DAF-0EA347432F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D9134-C7C5-4500-8503-B808AAFF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D18-DFD5-4CEF-BC25-5E1B81E1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0BA9E-E8EF-4BC6-818A-6268D83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0F168-72B4-461D-AC38-64FD95A7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0337C-2534-448E-87B1-768E6EC7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CCE17-CE66-41B8-B254-6C99741A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F9167-63AC-4579-9C60-EE817F3A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7733D-C0D3-4D20-BBD9-15069D67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B5083-3F57-4751-8DE8-AD50D5A5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6AF91-6F77-4D12-8CB0-84ACC59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AE9F8-65C7-48F4-BD80-955DE62A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75D66-B16A-44BF-8D36-9D2E5DA4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A61-F527-49B5-BC29-5CFCFA94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6AA06-B2AA-4052-AC9B-767A9FD5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66E7B-11E8-4079-A049-C4A1D496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A291F-43EA-43BF-8152-B38DAAAF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AEEE9-8CC6-4F67-84FA-6F580C6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2891B-D4AD-4D53-9266-9539EB62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27649-39D5-4AF6-99FD-618640B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CE4A1-9351-4C56-83C7-F9743974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4E204-95E2-4BF8-8C24-5E177C0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94F2B-2DA1-4C00-B412-0F827946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F72FF-F32B-4474-BCD7-EAEF1F59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301-87A0-43A7-B803-03E9F16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ED224-0D53-4C03-97AF-78306F71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107974-FDAA-44FD-8213-3F04D87F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669EE-3FC4-4C66-A49A-219DE3EC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6D9-B7C6-4B86-AA0F-54E1CE42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D6A-F359-4B6A-A460-47CAF63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8121-D09D-45E4-BF90-FCB6D3C426F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98A1-3819-4DE1-97C7-E2E83C426929}" type="slidenum">
              <a:rPr b="0" lang="es-ES" sz="10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BCF8-B5FC-4D6A-B605-5A01BB405A3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330-7E7C-49E3-A9AB-5F1037A72ED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7427520" y="65718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2DB-91EE-4377-A9C7-E9B9278DD8E2}" type="slidenum">
              <a:rPr b="0" lang="es-ES" sz="10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8"/>
          </p:nvPr>
        </p:nvSpPr>
        <p:spPr>
          <a:xfrm>
            <a:off x="7167600" y="65242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D1D-FEF7-4434-9258-CD55279B07F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4A47-B900-479A-BDB4-A7B0DD410C9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BBE9-7376-49BD-9704-C219FD2DF32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465D-26B0-4AAD-AEF1-0B431B3ABBE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B2FE-87D6-4851-BDDB-F81170F59E9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9906120" cy="1295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57600" y="299736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AR" sz="4000" spc="-1" strike="noStrike" u="sng">
                <a:solidFill>
                  <a:srgbClr val="558ed5"/>
                </a:solidFill>
                <a:uFillTx/>
                <a:latin typeface="Calibri"/>
              </a:rPr>
              <a:t>Aspectos imposi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254061"/>
                </a:solidFill>
                <a:uFillTx/>
                <a:latin typeface="Calibri"/>
              </a:rPr>
              <a:t>CP Darío Rajmilovi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254061"/>
                </a:solidFill>
                <a:latin typeface="Calibri"/>
              </a:rPr>
              <a:t>16 de noviembre de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05040" y="1916280"/>
            <a:ext cx="900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1"/>
          <a:stretch/>
        </p:blipFill>
        <p:spPr>
          <a:xfrm>
            <a:off x="0" y="-2700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213372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-43416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es-AR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ectos temporales de la reorganización cuando actúan organismos de contralor que deben autorizar con carácter previo la operación (Defensa de la Competencia, Secretaría de Comunicaciones, COMFER, BCRA, SSN, etc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Efecto actual: constitutivo al requerirse la previa aprobación para que la reorganización opere sus efectos fisc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Desincentivo fuerte a encuadrar la reorganización libre de impuesto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sz="2200" spc="-1" strike="noStrike" u="sng">
                <a:solidFill>
                  <a:srgbClr val="000000"/>
                </a:solidFill>
                <a:uFillTx/>
                <a:latin typeface="Calibri"/>
              </a:rPr>
              <a:t>Propuest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Efecto declarativo: en caso de rechazo de la reorganización, los atributos impositivos ya aplicados (absorción de quebrantos, compensación de saldos a favor, etc.) se tienen por producidos; asimismo, en este caso los atributos impositivos no aplicados y las transferencias de activos y pasivos se consideran no producidos. Debería complementarse con regla contra abus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488880" y="1989000"/>
            <a:ext cx="900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272880" y="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213372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5) 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udas sobre el régimen legal vig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Porcentajes de control (carácter taxativo o indicativ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Mantenimiento del capital por un plazo de dos (2) años (impor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Acciones que cotizan en bolsas o mercados de valores (exclusión propor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Mantenimiento de la actividad (sociedades holding, alquiler de inmuebles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Transferencias parciales de activos y pasivos (valuación impositiva para transferencia de atributos fiscal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Restricción para el cómputo de quebrantos impositivos y franquicias por regímenes de promoción económica (no se extiende a otros créditos fiscales como saldos a favor, créditos impuesto a la ganancia mínima presunta, otros pagos a cuenta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44520" y="2332080"/>
            <a:ext cx="900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99" name="Picture 10" descr=""/>
          <p:cNvPicPr/>
          <p:nvPr/>
        </p:nvPicPr>
        <p:blipFill>
          <a:blip r:embed="rId1"/>
          <a:stretch/>
        </p:blipFill>
        <p:spPr>
          <a:xfrm>
            <a:off x="272880" y="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213372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6) 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organizaciones internacionales calificadas. Cas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Sucursal de entidad del exterior transfiere activos y pasivos a una nueva sociedad (contra emisión de nuevas acciones de esta última) para luego fusionar la nueva sociedad con otra sociedad existente integrante del mismo conjunto económ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just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Sociedad local vende activos y pasivos integrantes de una sucursal radicada en el exterior a favor de sociedad existente (constituida en el exterior o en el país) integrante del mismo conjunto económico contra la emisión de acciones de la sociedad adquir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just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Regulación necesaria a nivel Mercosur para los restantes supuestos, cuando la/s entidad/s continuadora/s está ubicada en otros países del mercado  y se cumplen los requisitos legales calificado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44520" y="2332080"/>
            <a:ext cx="900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304" name="Picture 10" descr=""/>
          <p:cNvPicPr/>
          <p:nvPr/>
        </p:nvPicPr>
        <p:blipFill>
          <a:blip r:embed="rId1"/>
          <a:stretch/>
        </p:blipFill>
        <p:spPr>
          <a:xfrm>
            <a:off x="272880" y="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213372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7) 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Transformaciones societarias (cambio del ropaje jurídico sin implicar la existencia de transferencias patrimoniales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Efectos de la reorganización (neutralidad) sujeto al mantenimiento del 80% mínimo de la titularidad en las mismas person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sz="2200" spc="-1" strike="noStrike" u="sng">
                <a:solidFill>
                  <a:srgbClr val="000000"/>
                </a:solidFill>
                <a:uFillTx/>
                <a:latin typeface="Calibri"/>
              </a:rPr>
              <a:t>Supuestos a reglamentar  como una transform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Consolidación de sucursales (caso de fusión de casas matrices con sendas sucursales radicadas en el paí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sz="2200" spc="-1" strike="noStrike">
                <a:solidFill>
                  <a:srgbClr val="000000"/>
                </a:solidFill>
                <a:latin typeface="Calibri"/>
              </a:rPr>
              <a:t>Nacionalización” de sociedades en virtud de lo previsto en el art.124 LSC y Res. Gral. 7/03 y 12/03 (IGJ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Conversión de fondos comunes de inversión cerrados en fideicomisos o de fideicomisos financieros en ordinarios o a la inver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44520" y="2332080"/>
            <a:ext cx="900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/>
          <a:stretch/>
        </p:blipFill>
        <p:spPr>
          <a:xfrm>
            <a:off x="272880" y="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2287440"/>
            <a:ext cx="990612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7) 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Calibri"/>
              </a:rPr>
              <a:t>Fusiones impropias con “push-down” de deuda de la sociedad holding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a la sociedad continuadora en el marco de una fusión por absorción (entidad operativ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Tema controvertido por el Fisco: deducibilidad de intereses financieros en la sociedad operativa (continuadora</a:t>
            </a:r>
            <a:r>
              <a:rPr b="0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Derecho comparado:  suele impugnarse la deducción para evitar el ahuecamiento de la base del impuesto a la renta, principalmente en el caso de reorganizaciones internacionales (mecanismo de protección de base del impuesto a la ren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44520" y="2332080"/>
            <a:ext cx="900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272880" y="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7480" y="2133720"/>
            <a:ext cx="99057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m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Tipología legal: fusión, escisión o división, y transferencias dentro del conjunto económ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ts val="998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asos no contemplados existentes en el derecho compar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ts val="998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Estructura legal del régimen fiscal de reorganizaciones libres de impue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ts val="998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Fecha de reorgan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ts val="998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  <a:ea typeface="Arial"/>
              </a:rPr>
              <a:t>Efectos temporales de la reorganización cuando actúan organismos de contralor que deben autorizar con carácter previo la operación (Defensa de la Competencia, Secretaría de Comunicaciones, COMFER, BCRA, SSN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ts val="998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560520" y="1927080"/>
            <a:ext cx="900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0" y="-2700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7120" y="2133720"/>
            <a:ext cx="9474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m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  <a:ea typeface="Arial"/>
              </a:rPr>
              <a:t>Dudas sobre el régimen vig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ts val="998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  <a:ea typeface="Arial"/>
              </a:rPr>
              <a:t>Reorganizaciones internacionales calificadas. Ca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ts val="998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Transformaciones societarias (cambio del ropaje jurídico sin implicar la existencia de transferencias patrimonial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  <a:ea typeface="Arial"/>
              </a:rPr>
              <a:t>Fusiones impropias con push-down de deuda de</a:t>
            </a:r>
            <a:r>
              <a:rPr b="0" sz="2200" spc="-1" strike="noStrike">
                <a:solidFill>
                  <a:srgbClr val="000000"/>
                </a:solidFill>
                <a:latin typeface="Calibri"/>
              </a:rPr>
              <a:t> la sociedad holding</a:t>
            </a:r>
            <a:r>
              <a:rPr b="0" sz="2200" spc="-1" strike="noStrike">
                <a:solidFill>
                  <a:srgbClr val="000000"/>
                </a:solidFill>
                <a:latin typeface="Calibri"/>
                <a:ea typeface="Arial"/>
              </a:rPr>
              <a:t> a la sociedad continuadora, en el marco de una fusión por absorción (entidad operativa absorbe a hold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60520" y="1927080"/>
            <a:ext cx="900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56" name="Picture 10" descr=""/>
          <p:cNvPicPr/>
          <p:nvPr/>
        </p:nvPicPr>
        <p:blipFill>
          <a:blip r:embed="rId1"/>
          <a:stretch/>
        </p:blipFill>
        <p:spPr>
          <a:xfrm>
            <a:off x="0" y="-2700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213372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pología legal de esquemas de reorganización libres de impues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rtículo 77, inciso a):  Fus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560520" y="1927080"/>
            <a:ext cx="900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1"/>
          <a:stretch/>
        </p:blipFill>
        <p:spPr>
          <a:xfrm>
            <a:off x="0" y="-27000"/>
            <a:ext cx="9906120" cy="12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144360" y="2924280"/>
          <a:ext cx="9632880" cy="3643200"/>
        </p:xfrm>
        <a:graphic>
          <a:graphicData uri="http://schemas.openxmlformats.org/drawingml/2006/table">
            <a:tbl>
              <a:tblPr/>
              <a:tblGrid>
                <a:gridCol w="1208160"/>
                <a:gridCol w="2592360"/>
                <a:gridCol w="5832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ub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Defini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Requisitos leg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Fusión por cre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En la Fecha de Reorganización (FR): el 80% mínimo del capital (P.Neto) de absorbente o nueva entidad, de titularidad de socios o accionistas (en conjunto) de las antecesoras en el instante previo a la F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254061"/>
                          </a:solidFill>
                          <a:uFillTx/>
                          <a:latin typeface="Calibri"/>
                        </a:rPr>
                        <a:t>En gen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- Mantenimiento importe ($) de participación x 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Actividad análoga o complementaria x 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Empresa en marcha (18 mes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Actividad previa análoga o complementaria (12 me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umplimiento de publicidad e in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254061"/>
                          </a:solidFill>
                          <a:uFillTx/>
                          <a:latin typeface="Calibri"/>
                        </a:rPr>
                        <a:t>Traslado de quebrantos y beneficios promocionales: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80% del capital (porcentaje) en manos de mismos socios por 2 años antes de FR, salvo si cotiz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213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Fusión por ab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213372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pología legal de esquemas de reorganización libres de impues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rtículo 77, inciso b):  Escisión o divis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560520" y="1927080"/>
            <a:ext cx="900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0" y="-27000"/>
            <a:ext cx="9906120" cy="12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144360" y="2924280"/>
          <a:ext cx="9632880" cy="3643200"/>
        </p:xfrm>
        <a:graphic>
          <a:graphicData uri="http://schemas.openxmlformats.org/drawingml/2006/table">
            <a:tbl>
              <a:tblPr/>
              <a:tblGrid>
                <a:gridCol w="1784520"/>
                <a:gridCol w="2016000"/>
                <a:gridCol w="583236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ub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Defini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Requisitos leg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Escisión por cre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Ídem Fusión respecto del capital escind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254061"/>
                          </a:solidFill>
                          <a:uFillTx/>
                          <a:latin typeface="Calibri"/>
                        </a:rPr>
                        <a:t>En gen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- Mantenimiento importe ($) de participación x 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Actividad análoga o complementaria x 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Empresa en marcha (18 mes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Actividad previa análoga o complementaria (12 me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Cumplimiento de publicidad e in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254061"/>
                          </a:solidFill>
                          <a:uFillTx/>
                          <a:latin typeface="Calibri"/>
                        </a:rPr>
                        <a:t>Traslado de quebrantos y beneficios promocionales: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80% del capital (porcentaje) en manos de mismos socios por 2 años antes de FR, salvo si cotiz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Excorpo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Div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Ídem Fu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214308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pología legal de esquemas de reorganización libres de impues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rtículo 77, inciso c):  Conjunto económ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60520" y="1773360"/>
            <a:ext cx="900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1"/>
          <a:stretch/>
        </p:blipFill>
        <p:spPr>
          <a:xfrm>
            <a:off x="0" y="-27000"/>
            <a:ext cx="9906120" cy="12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71280" y="3141720"/>
          <a:ext cx="9777600" cy="3643200"/>
        </p:xfrm>
        <a:graphic>
          <a:graphicData uri="http://schemas.openxmlformats.org/drawingml/2006/table">
            <a:tbl>
              <a:tblPr/>
              <a:tblGrid>
                <a:gridCol w="3200400"/>
                <a:gridCol w="2265480"/>
                <a:gridCol w="43117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Sub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Defini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Requisitos leg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Transferencias de unidades de negocios o fondos de comercio entre unidades del mismo conjunto económico (quedan subsumidas la fusión y escisión de empresas dentro del conjunto económico: CSJN, “</a:t>
                      </a:r>
                      <a:r>
                        <a:rPr b="0" sz="2000" spc="-1" strike="noStrike" u="sng">
                          <a:solidFill>
                            <a:srgbClr val="254061"/>
                          </a:solidFill>
                          <a:uFillTx/>
                          <a:latin typeface="Calibri"/>
                        </a:rPr>
                        <a:t>Frigorífico Paladini S.A</a:t>
                      </a:r>
                      <a:r>
                        <a:rPr b="0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.” 02/03/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80% mínimo del capital de la continuadora está en manos de los mismos socios de la antecesora, y dicho porcentaje se mantiene después de la FR en forma indivi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254061"/>
                          </a:solidFill>
                          <a:uFillTx/>
                          <a:latin typeface="Calibri"/>
                        </a:rPr>
                        <a:t>En gen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Actividad análoga o complementaria x 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 u="sng">
                          <a:solidFill>
                            <a:srgbClr val="254061"/>
                          </a:solidFill>
                          <a:uFillTx/>
                          <a:latin typeface="Calibri"/>
                        </a:rPr>
                        <a:t>Traslado de quebrantos y beneficios promocionales: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254061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80% del capital (porcentaje) en manos de mismos socios por 2 años antes de FR, salvo si cotiz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loitte Scrip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213372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sos no contemplados existentes en el derecho compar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Canje de acciones </a:t>
            </a:r>
            <a:r>
              <a:rPr b="0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adquisición del 80% ó más del capital de una sociedad X contra entrega de acciones propias a los accionistas de X (intercambio de dinero hasta un cierto % ó distribución de acciones en forma no proporcional –en un cierto %- al valor económico de ambas socieda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Transferencias de bienes por reducción de capital, rescate de acciones o liquidación social, a través de la entrega de bienes o un conjunto de bienes, cuando se continúa con el negocio o la misma afectación de los bienes en cabeza del/os sujeto/s continuador/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Transferencias de bienes (aun individuales) contra emisión de acciones o demás participaciones asimilables a sociedades de personas o de capital (excepto de corto plazo como ciertos fideicomiso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Venta y reemplazo en la venta de acciones y otras participaciones asimil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415800" y="1927080"/>
            <a:ext cx="900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1"/>
          <a:stretch/>
        </p:blipFill>
        <p:spPr>
          <a:xfrm>
            <a:off x="272880" y="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213372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structura legal del régimen fiscal de reorganizaciones libres de impues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Es taxativo: normativa en impuesto a las ganancias, IVA, IG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alibri"/>
              </a:rPr>
              <a:t>Debería preverse una norma general de desgravación impositiva de las reorganizaciones calificadas, en el conjunto de los impuestos del ámbito nacional y provincial y municipal (sujeto a la adhesión de las provincias), cuando queda preservada la imposición sobre la venta que realice de los bienes la empresa continuado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415800" y="1927080"/>
            <a:ext cx="900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1"/>
          <a:stretch/>
        </p:blipFill>
        <p:spPr>
          <a:xfrm>
            <a:off x="272880" y="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1125000"/>
            <a:ext cx="9906120" cy="1008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Reorganizaciones societarias. </a:t>
            </a:r>
            <a:br>
              <a:rPr sz="2300"/>
            </a:br>
            <a:r>
              <a:rPr b="1" lang="es-AR" sz="2300" spc="-1" strike="noStrike">
                <a:solidFill>
                  <a:srgbClr val="ffffff"/>
                </a:solidFill>
                <a:latin typeface="Verdana"/>
              </a:rPr>
              <a:t>Aspectos societarios e impositivos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2133720"/>
            <a:ext cx="99061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echa de reorganiz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Fecha de reorganización:  se define como una cuestión de hecho y prueba (fecha en que la/s empresa/s continuadora/s prosiguen las actividades de la/s antecesora/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Falta de seguridad jurídica (caso de traspaso escalonado de funciones, de nómina y de bienes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Calibri"/>
              </a:rPr>
              <a:t>Propuesta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Fusión y escisión societaria: fecha de los efectos societar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Otros tipos: fecha de perfeccionamiento jurídico de la transferencia de bienes que representen un porcentaje significativo del patrimonio transferido en valor económi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2100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88880" y="1989000"/>
            <a:ext cx="900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loitte Script"/>
            </a:endParaRPr>
          </a:p>
        </p:txBody>
      </p:sp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72880" y="0"/>
            <a:ext cx="99061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9:53:26Z</dcterms:created>
  <dc:creator>DTT</dc:creator>
  <dc:description/>
  <dc:language>en-US</dc:language>
  <cp:lastModifiedBy>Dario</cp:lastModifiedBy>
  <dcterms:modified xsi:type="dcterms:W3CDTF">2011-11-01T17:21:03Z</dcterms:modified>
  <cp:revision>982</cp:revision>
  <dc:subject/>
  <dc:title>Slide 1</dc:title>
</cp:coreProperties>
</file>